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D1A-9257-4EEE-B4C4-FAB275CE9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770-0783-45D3-AF67-93723792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5BB-A4B5-4F62-8845-FF895279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9A0F-5F62-465B-A4EC-545A5227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: http://bio1152.nicerweb.com/Locked/media/ch44/44_02HyperHypoosmotic-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er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er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is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a-z-animals.com/media/animals/images/470x370/sponge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CE84-1C55-4924-B441-BC07C365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jackofalltraining.com/wp-content/uploads/2012/05/eliminate-wast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1F3-9897-44F0-A1B6-5337B3A00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BB1-718F-4E58-89D8-3629B9E5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whealthadvisor.com/images/1HT00045/PART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935-A77C-4AF1-A1D1-2F89855A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(NH3) is highly 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A8C-7047-49FA-B6A1-57143620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lintoncc.suny.edu/faculty/michael.gregory/files/bio%20102/bio%20102%20lectures/excretory%20system/excret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017-65E3-47A7-8CB5-DDADC487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5E7-19C7-40C6-AE36-A6EA1D73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5BD-ACBE-421F-8B99-035BD3E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F59-D944-4A55-945B-26391B74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D15-8042-4BC5-AB1E-D6996362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499-F81C-48F8-BD02-46764C71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CCA-E5F7-4671-925B-9D63010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A80-5F03-4C0D-83A0-B850B6D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7BE-6DDC-4ADB-BBA0-18BCD9E9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EBD-463E-441D-9E20-D06F27A6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8DE-C2E9-4C9F-99BC-2092982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556-0090-46C5-9580-BD3E7516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03B-1646-4ED2-B528-0A4B77F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EDA-A82E-4899-BBDE-54207440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the-kidney-and-nephron?playlist=Biolo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tic press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essure resulting from a difference in solute concentration across a selectively permeabl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re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ctive regulation of the osmotic pressure of bodily fluids an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with higher solute concentr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osm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osm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t movement once solution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osm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44_02HyperHypoosmotic-L.jpg"/>
          <p:cNvPicPr/>
          <p:nvPr/>
        </p:nvPicPr>
        <p:blipFill>
          <a:blip r:embed="rId1"/>
          <a:srcRect l="0" t="-15616" r="0" b="-1561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need to keep their intra- &amp; extracellular fluids isoosmo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ne animals are often isoosmotic to their extern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sponge4.jpg"/>
          <p:cNvPicPr/>
          <p:nvPr/>
        </p:nvPicPr>
        <p:blipFill>
          <a:blip r:embed="rId1"/>
          <a:srcRect l="13559" t="0" r="1355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06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ion is the elimination of waste products &amp; foreign matter from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&amp; osmotic equilibrium are mantained through the process of ex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eliminate-waste.jpg"/>
          <p:cNvPicPr/>
          <p:nvPr/>
        </p:nvPicPr>
        <p:blipFill>
          <a:blip r:embed="rId1"/>
          <a:srcRect l="0" t="-34723" r="0" b="-34723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W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m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duced from breakdown of amino &amp; nucleic acids, and is highly toxic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tic animals can remove ammonia with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PART1.jpg"/>
          <p:cNvPicPr/>
          <p:nvPr/>
        </p:nvPicPr>
        <p:blipFill>
          <a:blip r:embed="rId1"/>
          <a:stretch/>
        </p:blipFill>
        <p:spPr>
          <a:xfrm>
            <a:off x="5651640" y="4640400"/>
            <a:ext cx="274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W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s, some reptiles, most amphibians combine ammonia with bicarbonate to for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uch less toxic &amp; high solu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 and some invertebrates pro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ic ac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ess toxic &amp; low solu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xcret1"/>
          <p:cNvPicPr/>
          <p:nvPr/>
        </p:nvPicPr>
        <p:blipFill>
          <a:blip r:embed="rId1"/>
          <a:stretch/>
        </p:blipFill>
        <p:spPr>
          <a:xfrm>
            <a:off x="950760" y="609480"/>
            <a:ext cx="7240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video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n academy…this video starts off with the structure of the kidney &amp; nephron, then goes into detail about the formation of urine (covered in 9.5)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the-kidney-and-nephr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7-04-25T15:03:16Z</dcterms:modified>
  <cp:revision>268</cp:revision>
  <dc:subject/>
  <dc:title>Maintaining An Internal Balance</dc:title>
</cp:coreProperties>
</file>